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788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784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788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784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491-2215-4E94-8860-1B8AFF6E0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B0A-C0E8-4FB2-B90E-B4F95337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AAC-1653-4EE2-AAC4-37A1D4A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5D9-8FF5-4BE3-9A6B-050F6E0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0D3-48DF-4030-8E10-3BB5EFEA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3608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8D4-8CAB-4B72-8D69-6DFF1E19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0C7-6463-46B7-918A-EB28CB8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815-926B-497A-99BF-305C03C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A0B-AFE6-491F-BAD5-AD9B027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E35-8BE9-4C59-9565-6243D87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75C-E77E-4A94-849E-0DC2F35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4788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5784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43792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54788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5784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518-08CA-47AD-AB22-FCEED386D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F10CC-3B51-4FB3-9367-A8965F1D6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1D021-7D04-46B1-8CF3-1A2563CA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D45E0-AE98-4586-89F0-31C7D7EC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6EB1E-871D-4840-8962-06B1DBF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FB24-6A05-4753-91F2-FFB7DC1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3608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60307-2A02-4482-A915-AA0C96A9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9ADC6-83D9-40DF-885A-0551FE9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1694-DD6E-4A0A-8892-459FD2E5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914DA-5BAA-4D08-A3D2-497BCCFA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6C48-42B5-4249-90E5-09A4C7F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D2E3-15D5-47A5-832B-E5A9BA7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4788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5784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243792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54788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5784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4E9D1-3DB5-4B3E-B63E-95C198FCF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9770E-5914-424C-AF50-ADFD965EC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8F170-0622-4772-95FD-C267F67F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9BE5B-67A9-4591-AE7A-1FBCD33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CB75E-EE54-46FC-8E2A-49E096F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C126D-78FD-4312-A918-A48B5296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3608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6E289-6C68-4D82-97B2-ED11F5E1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F6A505-AAEC-4D1D-BED4-414DEE7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4E364-82E7-43E1-A7BF-7ACA39F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6C80C-1E6D-4EEC-9A0F-23D080F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EF6FF-C3F4-4CDC-A53A-F0CCC505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62693-8E6A-4E83-91C9-2F616B2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4788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57840" y="228600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43792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54788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657840" y="4378320"/>
            <a:ext cx="2009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5B10F-A7A4-4FFD-AAEC-4A48D4318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3608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35800" y="437832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5800" y="2286000"/>
            <a:ext cx="304524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4378320"/>
            <a:ext cx="624060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46800"/>
            <a:ext cx="21258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382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"/>
          <p:cNvSpPr/>
          <p:nvPr/>
        </p:nvSpPr>
        <p:spPr>
          <a:xfrm>
            <a:off x="0" y="-387360"/>
            <a:ext cx="755640" cy="7245360"/>
          </a:xfrm>
          <a:prstGeom prst="rect">
            <a:avLst/>
          </a:prstGeom>
          <a:solidFill>
            <a:srgbClr val="ffff99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36080" cy="6392880"/>
            <a:chOff x="0" y="0"/>
            <a:chExt cx="9136080" cy="6392880"/>
          </a:xfrm>
        </p:grpSpPr>
        <p:sp>
          <p:nvSpPr>
            <p:cNvPr id="42" name=""/>
            <p:cNvSpPr/>
            <p:nvPr/>
          </p:nvSpPr>
          <p:spPr>
            <a:xfrm>
              <a:off x="1828800" y="4572000"/>
              <a:ext cx="6850080" cy="182088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36080" cy="6392880"/>
              <a:chOff x="0" y="0"/>
              <a:chExt cx="9136080" cy="6392880"/>
            </a:xfrm>
          </p:grpSpPr>
          <p:sp>
            <p:nvSpPr>
              <p:cNvPr id="44" name=""/>
              <p:cNvSpPr/>
              <p:nvPr/>
            </p:nvSpPr>
            <p:spPr>
              <a:xfrm>
                <a:off x="17640" y="0"/>
                <a:ext cx="1812600" cy="49309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36080" cy="28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0" y="4572000"/>
              <a:ext cx="1820880" cy="182088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437920" y="82440"/>
            <a:ext cx="624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6934320" y="6546600"/>
            <a:ext cx="166824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2160" y="6553080"/>
            <a:ext cx="1676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4870080" y="6541920"/>
            <a:ext cx="754200" cy="2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72A2AF8-43F3-4D07-BC9F-EC2D722755D7}" type="slidenum">
              <a: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36080" cy="6850080"/>
            <a:chOff x="0" y="0"/>
            <a:chExt cx="9136080" cy="685008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817640" cy="685008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514600"/>
              <a:ext cx="1817640" cy="182088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806480" y="2511360"/>
              <a:ext cx="7329600" cy="372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437920" y="82440"/>
            <a:ext cx="624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931080" y="6544800"/>
            <a:ext cx="16653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92160" y="6554880"/>
            <a:ext cx="1673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4866840" y="6544800"/>
            <a:ext cx="7542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D59233B-A3F8-42F8-AA63-A1E16F565F47}" type="slidenum">
              <a: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36080" cy="6850080"/>
            <a:chOff x="0" y="0"/>
            <a:chExt cx="9136080" cy="68500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360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313760" y="6480"/>
              <a:ext cx="1815840" cy="68436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3760" y="6480"/>
              <a:ext cx="1815840" cy="166680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7320" y="425520"/>
              <a:ext cx="828720" cy="82872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2437920" y="2286000"/>
            <a:ext cx="6240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437920" y="82440"/>
            <a:ext cx="624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6"/>
          </p:nvPr>
        </p:nvSpPr>
        <p:spPr>
          <a:xfrm>
            <a:off x="6552720" y="635004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7"/>
          </p:nvPr>
        </p:nvSpPr>
        <p:spPr>
          <a:xfrm>
            <a:off x="7848720" y="533160"/>
            <a:ext cx="7538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pl-PL" sz="1600" spc="-1" strike="noStrike">
                <a:solidFill>
                  <a:srgbClr val="000000"/>
                </a:solidFill>
                <a:latin typeface="Trebuchet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83DD73-0A37-4C84-B68E-7F7F29FB0052}" type="slidenum">
              <a:rPr b="0" lang="pl-PL" sz="16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7720" y="0"/>
            <a:ext cx="81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POWIATOWY ZESPÓŁ SZPIT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2362320" cy="180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769000" y="1828800"/>
            <a:ext cx="2212920" cy="2571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59320" y="465300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SESJA RADY MIA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603240" y="5506920"/>
            <a:ext cx="175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SYC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MAJ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6552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ŚWIADCZEŃ NA POSZCZEGÓLNYCH ODDZIAŁACH PORÓWNANIE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1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- 30.04.2011r. Z 01.01.2012r.-30.04.2012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052640"/>
          <a:ext cx="8570880" cy="5073480"/>
        </p:xfrm>
        <a:graphic>
          <a:graphicData uri="http://schemas.openxmlformats.org/drawingml/2006/table">
            <a:tbl>
              <a:tblPr/>
              <a:tblGrid>
                <a:gridCol w="3380040"/>
                <a:gridCol w="2517480"/>
                <a:gridCol w="2673360"/>
              </a:tblGrid>
              <a:tr h="612360">
                <a:tc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HOSPI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1-30.04.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HOSPIT. 01.01.2012-30.04.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OLEŚNI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18900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wewnętrz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360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chirurgicz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00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intensywnej opieki med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ginekologiczno - położni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dziecię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noworodk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– noworod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– noworod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133920" bIns="46800" anchor="ctr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Wewnętr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6552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ŚWIADCZEŃ NA POSZCZEGÓLNYCH ODDZIAŁACH PORÓWNANIE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1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- 30.04.2011r. Z 01.01.2012r.-30.04.2012r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9280" y="1052640"/>
          <a:ext cx="8570880" cy="2301840"/>
        </p:xfrm>
        <a:graphic>
          <a:graphicData uri="http://schemas.openxmlformats.org/drawingml/2006/table">
            <a:tbl>
              <a:tblPr/>
              <a:tblGrid>
                <a:gridCol w="3380040"/>
                <a:gridCol w="2517480"/>
                <a:gridCol w="2673360"/>
              </a:tblGrid>
              <a:tr h="612360">
                <a:tc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OSOBOD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1-30.04.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OSOBODNI. 01.01.2012-30.04.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 (OSOBODN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133920" bIns="46800" anchor="ctr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Rehabilitacyj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ład Pielęgnacyjno Opiekuń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64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6552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RAD AMBULATORYJ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01.01.2011r.- 30.04.2011r.  i 01.01.2012r.-30.04.2012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1592280"/>
          <a:ext cx="8066160" cy="3313080"/>
        </p:xfrm>
        <a:graphic>
          <a:graphicData uri="http://schemas.openxmlformats.org/drawingml/2006/table">
            <a:tbl>
              <a:tblPr/>
              <a:tblGrid>
                <a:gridCol w="4753080"/>
                <a:gridCol w="1511280"/>
                <a:gridCol w="1801800"/>
              </a:tblGrid>
              <a:tr h="677880">
                <a:tc>
                  <a:txBody>
                    <a:bodyPr lIns="90000" rIns="90000" tIns="489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1r.-30.04.2011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2r.- 30.04.2012r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lIns="90000" rIns="90000" tIns="25380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ULATORIUM I IZBA PRZYJĘĆ OLEŚ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000">
                <a:tc>
                  <a:txBody>
                    <a:bodyPr lIns="90000" rIns="90000" tIns="25380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ULATORIUM I IZBA PRZYJĘĆ SY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25380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552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ABIEG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01.01.2011r.- 30.04..2011r.  i 01.01.2012r.-30.04.2012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00000" y="1525680"/>
          <a:ext cx="7716960" cy="1903320"/>
        </p:xfrm>
        <a:graphic>
          <a:graphicData uri="http://schemas.openxmlformats.org/drawingml/2006/table">
            <a:tbl>
              <a:tblPr/>
              <a:tblGrid>
                <a:gridCol w="2703600"/>
                <a:gridCol w="2570040"/>
                <a:gridCol w="2443320"/>
              </a:tblGrid>
              <a:tr h="677880">
                <a:tc>
                  <a:txBody>
                    <a:bodyPr lIns="90000" rIns="90000" tIns="48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1r.-30.04.2011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2r.- 30.04.2012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90000" rIns="90000" tIns="2538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zabiegów chirurgicznych i ginekologicz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6552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RAD SPECJALISTY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01.01.2011r.- 30.04.2011r.  i 01.01.2012r.-30.04.2012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1052640"/>
          <a:ext cx="8317080" cy="5705280"/>
        </p:xfrm>
        <a:graphic>
          <a:graphicData uri="http://schemas.openxmlformats.org/drawingml/2006/table">
            <a:tbl>
              <a:tblPr/>
              <a:tblGrid>
                <a:gridCol w="4270680"/>
                <a:gridCol w="1796760"/>
                <a:gridCol w="2249640"/>
              </a:tblGrid>
              <a:tr h="80244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A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PO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1r.-30.04.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PO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1.2012r.- 30.04.2012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44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OLEŚ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20340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CZ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20340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AZOWO-ORTOPEDYCZ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90000" rIns="90000" tIns="20340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BETOLOGICZ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520">
                <a:tc>
                  <a:txBody>
                    <a:bodyPr lIns="90000" rIns="90000" tIns="20340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DIOLOGICZ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20340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CZNO-POŁOŻNIC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89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CZ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72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CZNO-POŁOŻNIC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HABILITACYJ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just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55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55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 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Zestawienie przychodów Powiatowego Zespołu Szpitali w Oleśnicy w latach 2010 i 201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165320"/>
          <a:ext cx="8497800" cy="4224240"/>
        </p:xfrm>
        <a:graphic>
          <a:graphicData uri="http://schemas.openxmlformats.org/drawingml/2006/table">
            <a:tbl>
              <a:tblPr/>
              <a:tblGrid>
                <a:gridCol w="511200"/>
                <a:gridCol w="2442960"/>
                <a:gridCol w="1676520"/>
                <a:gridCol w="1560600"/>
                <a:gridCol w="1420560"/>
                <a:gridCol w="885960"/>
              </a:tblGrid>
              <a:tr h="422640">
                <a:tc row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Źródło przychod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óżnica 2011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odowy Fundusz Zdrow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304 3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209 19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95 1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180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zedaż  usług medycznych (inne ZOZ-y, ZPO, laboratorium,  RTG  i inne bada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260 0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1 27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8 74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52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ostałe usługi niemedyczne (odpady, czynsze, automaty, transport sanitarny i in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 65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3 61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95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 gridSpan="2"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330 00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 234 07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95 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EALIZACJA UMOWY NA LECZENIE SZPITALNE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W OKRESIE I-IV 20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1023840"/>
          <a:ext cx="8748720" cy="5808600"/>
        </p:xfrm>
        <a:graphic>
          <a:graphicData uri="http://schemas.openxmlformats.org/drawingml/2006/table">
            <a:tbl>
              <a:tblPr/>
              <a:tblGrid>
                <a:gridCol w="2789280"/>
                <a:gridCol w="1660320"/>
                <a:gridCol w="2111400"/>
                <a:gridCol w="2187720"/>
              </a:tblGrid>
              <a:tr h="80352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OŚĆ ZREALIZOWANYCH ŚWIADCZE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OŚĆ NADWYKONAŃ / NIEDOWYKONA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OBY WEWNĘTRZNE OLEŚ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88 3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96 717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8 377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OBY WEWNĘTRZNE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 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1 57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61 236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IA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 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2 20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3 71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OLOG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 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00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6 81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A I POŁOŻNIC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 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670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2 754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A I POŁOŻNICTWO – N01, N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 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 5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 8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A OGÓ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7 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3 010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4 685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49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01 703,5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7 396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EALIZACJA UMOWY NA LECZENIE SZPITALNE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W 201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023840"/>
          <a:ext cx="8748720" cy="5808600"/>
        </p:xfrm>
        <a:graphic>
          <a:graphicData uri="http://schemas.openxmlformats.org/drawingml/2006/table">
            <a:tbl>
              <a:tblPr/>
              <a:tblGrid>
                <a:gridCol w="2789280"/>
                <a:gridCol w="1660320"/>
                <a:gridCol w="2111400"/>
                <a:gridCol w="2187720"/>
              </a:tblGrid>
              <a:tr h="80352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OŚĆ ZREALIZOWANYCH ŚWIADCZE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OŚĆ NADWYKONAŃ / NIEDOWYKONA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OBY WEWNĘTRZNE OLEŚ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38 67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73 62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34 95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OBY WEWNĘTRZNE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56 8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96 939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0 112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DIA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40 67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40 684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ONATOLOG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1 03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31 03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A I POŁOŻNIC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3 09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88 722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5 627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056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A I POŁOŻNICTWO – N01, N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4 24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4 24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520">
                <a:tc>
                  <a:txBody>
                    <a:bodyPr lIns="90000" rIns="90000" tIns="185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A OGÓL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81 26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8 32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 946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45 8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233 574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87 756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36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Wartość kontraktu 2011 - 201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836640"/>
          <a:ext cx="8135640" cy="5405400"/>
        </p:xfrm>
        <a:graphic>
          <a:graphicData uri="http://schemas.openxmlformats.org/drawingml/2006/table">
            <a:tbl>
              <a:tblPr/>
              <a:tblGrid>
                <a:gridCol w="4143240"/>
                <a:gridCol w="1808280"/>
                <a:gridCol w="2184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zenie szpital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328 065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17 68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ulatoryjna Opieka Specjalistycz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 598,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28 550,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habilitacj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29 927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38 900,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6 005,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 285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sztochłonne A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 536,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556,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ksowa AOS nad pacjentem z cukrzyc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 945,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8 323,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ownictwo me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49 850,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 198 151,6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2 429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76 812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 sanitar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9 103,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 562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26 461,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878 821,8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AZ  KOSZTÓW  WG. RODZAJÓW PONIESIONYCH W ROKU 2010 i W 2011  W  POWIATOWYM  ZESPOLE SZPITALI (w z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400" y="849240"/>
          <a:ext cx="8896320" cy="5823000"/>
        </p:xfrm>
        <a:graphic>
          <a:graphicData uri="http://schemas.openxmlformats.org/drawingml/2006/table">
            <a:tbl>
              <a:tblPr/>
              <a:tblGrid>
                <a:gridCol w="3998880"/>
                <a:gridCol w="1296720"/>
                <a:gridCol w="1295640"/>
                <a:gridCol w="1297080"/>
                <a:gridCol w="1008000"/>
              </a:tblGrid>
              <a:tr h="573840"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NAZWA KOSZT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XII.2010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XII.2011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RÓŻ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240"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(3-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WYNAGRODZ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4 196 176,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4 770 900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574 723,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4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ŚWIADCZ. NA RZECZ PRACOWN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 625 711,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21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 864 948,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39 236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AMORTYZA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 693 083,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 068 517,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75 434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ZUZYCIE MATERIAŁÓW I ENERGII w tym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 939 07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 804 381,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134 694,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7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23868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ZUŻYCIE ŻYWNOŚCI - (Wsad do kotła + art., żywn. pobrane z magazynu żywnościowego)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71 205,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21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7 42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684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6 214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SPRZĘT JEDNORAZOWY+DR.SPRZ. M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43 427,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04 84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38 585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2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LEKI I ŚR. OPATRUNKOW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825 418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784 854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40 564,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9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ODCZYNIKI + TLEN M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42 407,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34 666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7 740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7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PALIW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29 370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89 125,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59 754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0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22428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ENERGIA ELEKTRYCZ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82 694,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46 439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36 254,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42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5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tan zatrudnienia w PZS w latach 2010 - 20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55640" y="1360440"/>
          <a:ext cx="7921440" cy="4516560"/>
        </p:xfrm>
        <a:graphic>
          <a:graphicData uri="http://schemas.openxmlformats.org/drawingml/2006/table">
            <a:tbl>
              <a:tblPr/>
              <a:tblGrid>
                <a:gridCol w="2376360"/>
                <a:gridCol w="863640"/>
                <a:gridCol w="1081080"/>
                <a:gridCol w="792000"/>
                <a:gridCol w="1008360"/>
                <a:gridCol w="792000"/>
                <a:gridCol w="1008000"/>
              </a:tblGrid>
              <a:tr h="155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dzień</a:t>
                      </a:r>
                      <a:br>
                        <a:rPr sz="3200"/>
                      </a:b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12. 20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dzień</a:t>
                      </a:r>
                      <a:br>
                        <a:rPr sz="3200"/>
                      </a:b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 12. 2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dzień</a:t>
                      </a:r>
                      <a:br>
                        <a:rPr sz="3200"/>
                      </a:b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 04. 20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ó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ó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ó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karze medycy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y z wyższy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 medycz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,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ższy medycz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podarczy i obsług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ministracj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ół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4,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,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,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AZ  KOSZTÓW  WG. RODZAJÓW PONIESIONYCH W ROKU 2010 i W 2011  W  POWIATOWYM  ZESPOLE SZPITA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9280" y="836640"/>
          <a:ext cx="8858520" cy="6005520"/>
        </p:xfrm>
        <a:graphic>
          <a:graphicData uri="http://schemas.openxmlformats.org/drawingml/2006/table">
            <a:tbl>
              <a:tblPr/>
              <a:tblGrid>
                <a:gridCol w="2952720"/>
                <a:gridCol w="1586160"/>
                <a:gridCol w="1655640"/>
                <a:gridCol w="1368360"/>
                <a:gridCol w="1295640"/>
              </a:tblGrid>
              <a:tr h="5918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NAZWA KOSZTÓ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XII.2010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XII.2011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RÓŻ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36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</a:t>
                      </a:r>
                      <a:br>
                        <a:rPr sz="1200"/>
                      </a:b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(3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ENERGIA CIEPL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89 90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80 283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9 624,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3,3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ŚRODKI CZYSTOŚ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86 551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9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         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9 151,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2 599,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4 5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MATER.BIUROWE I DRUKI+WYDAWNICTWA I TONE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93 454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86 305,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7 149,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6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REW,OSOC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60 326,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56 209,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4 117,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 1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36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POZOSTAŁE MATERIAŁY MEDYCZ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35 140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20 841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14 298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36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SPRZĘT + MATERIAŁY GOSPODARC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79 763,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75 763,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13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 4 000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,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USŁUGI OBCE w tym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8 539 936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13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 851 765,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684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1 828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,6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NAPRAWA  I GWAR.SPRZĘTU MEDYCZNE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55 694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38 187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17 506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2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REMONTOW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32 147,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684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9 285,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302 862,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0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USŁUGI PRALNIC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86 081,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92 344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6 262,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AZ  KOSZTÓW  WG. RODZAJÓW PONIESIONYCH W ROKU 2010 i W 2011 W  POWIATOWYM  ZESPOLE SZPITA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7480" y="981000"/>
          <a:ext cx="9023040" cy="5048280"/>
        </p:xfrm>
        <a:graphic>
          <a:graphicData uri="http://schemas.openxmlformats.org/drawingml/2006/table">
            <a:tbl>
              <a:tblPr/>
              <a:tblGrid>
                <a:gridCol w="3116160"/>
                <a:gridCol w="1657440"/>
                <a:gridCol w="1657080"/>
                <a:gridCol w="1511280"/>
                <a:gridCol w="1081080"/>
              </a:tblGrid>
              <a:tr h="68400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NAZWA KOSZTÓ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 XII. 2010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SZTY NA 31. XII.2011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RÓŻ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64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(3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BADANIA MEDYCZ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 135 623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 247 259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684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1 635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KONTRA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5 746 85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6 365 479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618 629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12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264960" indent="-257040">
                        <a:lnSpc>
                          <a:spcPct val="71000"/>
                        </a:lnSpc>
                        <a:tabLst>
                          <a:tab algn="l" pos="0"/>
                          <a:tab algn="l" pos="264960"/>
                          <a:tab algn="l" pos="712800"/>
                          <a:tab algn="l" pos="1162080"/>
                          <a:tab algn="l" pos="1611360"/>
                          <a:tab algn="l" pos="2060640"/>
                          <a:tab algn="l" pos="2509920"/>
                          <a:tab algn="l" pos="2959200"/>
                          <a:tab algn="l" pos="3408480"/>
                          <a:tab algn="l" pos="3857760"/>
                          <a:tab algn="l" pos="4307040"/>
                          <a:tab algn="l" pos="4756320"/>
                          <a:tab algn="l" pos="5205240"/>
                          <a:tab algn="l" pos="5654520"/>
                          <a:tab algn="l" pos="6103800"/>
                          <a:tab algn="l" pos="6553080"/>
                          <a:tab algn="l" pos="7002360"/>
                          <a:tab algn="l" pos="7451640"/>
                          <a:tab algn="l" pos="7900920"/>
                          <a:tab algn="l" pos="8350200"/>
                          <a:tab algn="l" pos="8799480"/>
                          <a:tab algn="l" pos="9248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NAPRAWA I KONSERW.SPRZ.NIEMEDYCZ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99 142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74 386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24 756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,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UTYLIZACJA ODPAD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67 076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62 242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4 834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 ,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PODATKI  I  OPŁ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77 973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155 054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222 918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8,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POZOSTAŁE KOSZTY w tym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36 673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307 975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28 697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,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1120"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UBEZPIECZENIE  O.C. I MAJĄTK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92 26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275 24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Arial CE"/>
                        </a:rPr>
                        <a:t>- 17 01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2068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,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AZ  KOSZTÓW  WG. RODZAJÓW PONIESIONYCH W ROKU 2010i W 2011  W  POWIATOWYM  ZESPOLE SZPITAL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981000"/>
          <a:ext cx="8643960" cy="5865840"/>
        </p:xfrm>
        <a:graphic>
          <a:graphicData uri="http://schemas.openxmlformats.org/drawingml/2006/table">
            <a:tbl>
              <a:tblPr/>
              <a:tblGrid>
                <a:gridCol w="4051080"/>
                <a:gridCol w="1589040"/>
                <a:gridCol w="1584360"/>
                <a:gridCol w="1419480"/>
              </a:tblGrid>
              <a:tr h="62388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NAZWA KOSZT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KOSZTY NA 31.XII.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KOSZTY NA 31.XII.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RÓŻ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pl-PL" sz="16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(3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AMORTYZACJA - PROJEKT UNIJNY -KOMPLEKSOWA INFORMATYZACJA SZPITALI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589 107,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909 221,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320 113,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USŁUGI OBCE- PROJEKT UNIJ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46 116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46 116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ŚWIADCZ.NA RZECZ PRACOWN.- PROJEKT UNIJ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91 54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91 54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AMORTYZACJA - PROJEKT E-ZDROW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78 878,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69 056,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90 177,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ZUŻYCIE MATERIAŁÓW I ENERGII                     - PROJEKT E-ZDROWIE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3 303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2 3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1 003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USŁUGI OBCE                                                       -   PROJEKT E-ZDROW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3 44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6 445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3 005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ŚWIADCZ.NA RZECZ PRACOWNIKÓW               -  PROJEKT E-ZDROWIE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4 28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24 28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OGÓŁEM  KOSZTY  od  STYCZNIA  do GRUDNIA 2010/2011 w tym koszty realizacji projektów unijnych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32 997 310,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33 862 287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864 977,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2091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PROJEKTY UNIJ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956 934,79 z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 117 022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 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 CE"/>
                          <a:ea typeface="Arial CE"/>
                        </a:rPr>
                        <a:t>160 087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1407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KOSZTY WG RODZAJÓW I KWARTAŁ 2011 - 201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4200" y="333360"/>
          <a:ext cx="8713800" cy="6446880"/>
        </p:xfrm>
        <a:graphic>
          <a:graphicData uri="http://schemas.openxmlformats.org/drawingml/2006/table">
            <a:tbl>
              <a:tblPr/>
              <a:tblGrid>
                <a:gridCol w="3637080"/>
                <a:gridCol w="1297080"/>
                <a:gridCol w="1187280"/>
                <a:gridCol w="1441440"/>
                <a:gridCol w="1150920"/>
              </a:tblGrid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SZCZEGÓLNI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 – III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– III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ÓŻ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ZTY OGÓŁEM W TY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228 197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60 32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 129,15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ZUŻYCIE MATERIAŁÓW I ENERGI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TY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38 94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3 599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58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72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ENERGII ELEKTR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5840" bIns="46800" anchor="t">
                      <a:noAutofit/>
                    </a:bodyPr>
                    <a:p>
                      <a:pPr algn="r">
                        <a:lnSpc>
                          <a:spcPct val="7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 555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27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721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lIns="0" rIns="0" tIns="10872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ENERGII CIEPL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78480" bIns="0" anchor="t">
                      <a:noAutofit/>
                    </a:bodyPr>
                    <a:p>
                      <a:pPr algn="r"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866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 03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 83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8064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 11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10872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G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689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798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 891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8064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5,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0" rIns="0" tIns="10872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UŻYCIE W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41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0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6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8064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10,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880">
                <a:tc>
                  <a:txBody>
                    <a:bodyPr lIns="0" rIns="0" tIns="10872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ALI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181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777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95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8064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0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0" rIns="0" tIns="108720" bIns="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UŻYCIE ŻYWNOŚ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885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 991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0872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06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80640" bIns="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USŁUGI OB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03 663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16 68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17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PODATKI I OPŁA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 45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463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 989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WYNAGRODZ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40 90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45 229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20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0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ŚWIADCZENIA NA RZECZ PRACOWNIKÓW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57 72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17 878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157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W TYM SKŁADKI (ZUS, FUND. PRAC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 831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3 22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393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AMORTYZA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 910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 331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420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OZOSTAŁE KOSZ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 599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143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4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ACHUNEK ZYSKÓW I STR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981000"/>
          <a:ext cx="8209080" cy="5248440"/>
        </p:xfrm>
        <a:graphic>
          <a:graphicData uri="http://schemas.openxmlformats.org/drawingml/2006/table">
            <a:tbl>
              <a:tblPr/>
              <a:tblGrid>
                <a:gridCol w="3073320"/>
                <a:gridCol w="1760400"/>
                <a:gridCol w="1758960"/>
                <a:gridCol w="1616400"/>
              </a:tblGrid>
              <a:tr h="64620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SZCZEGÓLNI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ÓŻ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Y DZIAŁALNOŚCI OPERACYJ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 997 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75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 862 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75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64 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CHODY ZE SPRZEDAŻ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294 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013 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75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- 281 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OSTAŁE KOSZTY OPERACYJ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 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 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7560" bIns="46800" anchor="t">
                      <a:noAutofit/>
                    </a:bodyPr>
                    <a:p>
                      <a:pPr algn="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 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OSTAŁE PRZYCHODY OPERACYJ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3 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9 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94 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Y FINANS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 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 6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6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CHODY FINANSO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 8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174600" indent="-166680">
                        <a:lnSpc>
                          <a:spcPct val="71000"/>
                        </a:lnSpc>
                        <a:tabLst>
                          <a:tab algn="l" pos="0"/>
                          <a:tab algn="l" pos="174600"/>
                          <a:tab algn="l" pos="622440"/>
                          <a:tab algn="l" pos="1071720"/>
                          <a:tab algn="l" pos="1521000"/>
                          <a:tab algn="l" pos="1969920"/>
                          <a:tab algn="l" pos="2419200"/>
                          <a:tab algn="l" pos="2868480"/>
                          <a:tab algn="l" pos="3317760"/>
                          <a:tab algn="l" pos="3767040"/>
                          <a:tab algn="l" pos="4216320"/>
                          <a:tab algn="l" pos="4665600"/>
                          <a:tab algn="l" pos="5114880"/>
                          <a:tab algn="l" pos="5564160"/>
                          <a:tab algn="l" pos="6013440"/>
                          <a:tab algn="l" pos="6462720"/>
                          <a:tab algn="l" pos="6912000"/>
                          <a:tab algn="l" pos="7361280"/>
                          <a:tab algn="l" pos="7810560"/>
                          <a:tab algn="l" pos="8259840"/>
                          <a:tab algn="l" pos="8709120"/>
                          <a:tab algn="l" pos="9158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NIK NA DZIAŁALNOŚCI GOSPODARCZEJ (+zysk/-str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08 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342 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 434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ZOBOWIĄZAN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639720"/>
          <a:ext cx="8786880" cy="5840280"/>
        </p:xfrm>
        <a:graphic>
          <a:graphicData uri="http://schemas.openxmlformats.org/drawingml/2006/table">
            <a:tbl>
              <a:tblPr/>
              <a:tblGrid>
                <a:gridCol w="3313080"/>
                <a:gridCol w="1441440"/>
                <a:gridCol w="1368720"/>
                <a:gridCol w="1366560"/>
                <a:gridCol w="1297080"/>
              </a:tblGrid>
              <a:tr h="40284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SZCZEGÓLNIEN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ÓŻ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OBOWIĄZANIA DŁUGOTERMINOWE, W TYM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8 27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38 97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9 3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,4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87480" indent="-79560">
                        <a:lnSpc>
                          <a:spcPct val="78000"/>
                        </a:lnSpc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OŻYCZKI, OBLIGACJE I INNE PAPIERY WARTOŚCIO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357 280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357 280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84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174600" indent="-166680">
                        <a:lnSpc>
                          <a:spcPct val="78000"/>
                        </a:lnSpc>
                        <a:tabLst>
                          <a:tab algn="l" pos="0"/>
                          <a:tab algn="l" pos="174600"/>
                          <a:tab algn="l" pos="622440"/>
                          <a:tab algn="l" pos="1071720"/>
                          <a:tab algn="l" pos="1521000"/>
                          <a:tab algn="l" pos="1969920"/>
                          <a:tab algn="l" pos="2419200"/>
                          <a:tab algn="l" pos="2868480"/>
                          <a:tab algn="l" pos="3317760"/>
                          <a:tab algn="l" pos="3767040"/>
                          <a:tab algn="l" pos="4216320"/>
                          <a:tab algn="l" pos="4665600"/>
                          <a:tab algn="l" pos="5114880"/>
                          <a:tab algn="l" pos="5564160"/>
                          <a:tab algn="l" pos="6013440"/>
                          <a:tab algn="l" pos="6462720"/>
                          <a:tab algn="l" pos="6912000"/>
                          <a:tab algn="l" pos="7361280"/>
                          <a:tab algn="l" pos="7810560"/>
                          <a:tab algn="l" pos="8259840"/>
                          <a:tab algn="l" pos="8709120"/>
                          <a:tab algn="l" pos="9158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KREDYTY BANKO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 991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 691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9 3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ZOBOWIĄZANIA KRÓTKOTERMINOWE, W TYM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68 856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00 457,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 601,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84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KREDYTY BANKO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 1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9 2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 1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8,3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284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174600" indent="-166680">
                        <a:lnSpc>
                          <a:spcPct val="78000"/>
                        </a:lnSpc>
                        <a:tabLst>
                          <a:tab algn="l" pos="0"/>
                          <a:tab algn="l" pos="174600"/>
                          <a:tab algn="l" pos="622440"/>
                          <a:tab algn="l" pos="1071720"/>
                          <a:tab algn="l" pos="1521000"/>
                          <a:tab algn="l" pos="1969920"/>
                          <a:tab algn="l" pos="2419200"/>
                          <a:tab algn="l" pos="2868480"/>
                          <a:tab algn="l" pos="3317760"/>
                          <a:tab algn="l" pos="3767040"/>
                          <a:tab algn="l" pos="4216320"/>
                          <a:tab algn="l" pos="4665600"/>
                          <a:tab algn="l" pos="5114880"/>
                          <a:tab algn="l" pos="5564160"/>
                          <a:tab algn="l" pos="6013440"/>
                          <a:tab algn="l" pos="6462720"/>
                          <a:tab algn="l" pos="6912000"/>
                          <a:tab algn="l" pos="7361280"/>
                          <a:tab algn="l" pos="7810560"/>
                          <a:tab algn="l" pos="8259840"/>
                          <a:tab algn="l" pos="8709120"/>
                          <a:tab algn="l" pos="9158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OZOSTAŁE ZOBOWIĄZA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188,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937,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250,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,1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174600" indent="-166680">
                        <a:lnSpc>
                          <a:spcPct val="78000"/>
                        </a:lnSpc>
                        <a:tabLst>
                          <a:tab algn="l" pos="0"/>
                          <a:tab algn="l" pos="174600"/>
                          <a:tab algn="l" pos="622440"/>
                          <a:tab algn="l" pos="1071720"/>
                          <a:tab algn="l" pos="1521000"/>
                          <a:tab algn="l" pos="1969920"/>
                          <a:tab algn="l" pos="2419200"/>
                          <a:tab algn="l" pos="2868480"/>
                          <a:tab algn="l" pos="3317760"/>
                          <a:tab algn="l" pos="3767040"/>
                          <a:tab algn="l" pos="4216320"/>
                          <a:tab algn="l" pos="4665600"/>
                          <a:tab algn="l" pos="5114880"/>
                          <a:tab algn="l" pos="5564160"/>
                          <a:tab algn="l" pos="6013440"/>
                          <a:tab algn="l" pos="6462720"/>
                          <a:tab algn="l" pos="6912000"/>
                          <a:tab algn="l" pos="7361280"/>
                          <a:tab algn="l" pos="7810560"/>
                          <a:tab algn="l" pos="8259840"/>
                          <a:tab algn="l" pos="8709120"/>
                          <a:tab algn="l" pos="9158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OBOWIĄZANIA Z TYTUŁU DOSTAW I USŁU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219 126,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554 613,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 486,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5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90000" rIns="90000" tIns="1778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ZOBOWIĄZANIA Z TYTUŁU PODATKÓW, CEŁ, UBEZPIECZEŃ SPOŁECZNYCH, W TYM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99 691,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96 455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03 236,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,7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87480" indent="-79560">
                        <a:lnSpc>
                          <a:spcPct val="78000"/>
                        </a:lnSpc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ZOBOWIĄZANIA Z TYTUŁU PODATKÓW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 311,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 428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116,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5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177840" bIns="46800" anchor="t">
                      <a:noAutofit/>
                    </a:bodyPr>
                    <a:p>
                      <a:pPr marL="174600" indent="-166680">
                        <a:lnSpc>
                          <a:spcPct val="78000"/>
                        </a:lnSpc>
                        <a:tabLst>
                          <a:tab algn="l" pos="0"/>
                          <a:tab algn="l" pos="174600"/>
                          <a:tab algn="l" pos="622440"/>
                          <a:tab algn="l" pos="1071720"/>
                          <a:tab algn="l" pos="1521000"/>
                          <a:tab algn="l" pos="1969920"/>
                          <a:tab algn="l" pos="2419200"/>
                          <a:tab algn="l" pos="2868480"/>
                          <a:tab algn="l" pos="3317760"/>
                          <a:tab algn="l" pos="3767040"/>
                          <a:tab algn="l" pos="4216320"/>
                          <a:tab algn="l" pos="4665600"/>
                          <a:tab algn="l" pos="5114880"/>
                          <a:tab algn="l" pos="5564160"/>
                          <a:tab algn="l" pos="6013440"/>
                          <a:tab algn="l" pos="6462720"/>
                          <a:tab algn="l" pos="6912000"/>
                          <a:tab algn="l" pos="7361280"/>
                          <a:tab algn="l" pos="7810560"/>
                          <a:tab algn="l" pos="8259840"/>
                          <a:tab algn="l" pos="8709120"/>
                          <a:tab algn="l" pos="9158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OBOWIĄZANIA Z TYTUŁU UBEZPIECZEŃ SPOŁECZNY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45 379,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015 027,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30 352,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,1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EMONTY I ZAKUPY SPRZĘTU W 2011r.i 2012r. W PZS cz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4000" y="981000"/>
          <a:ext cx="8570880" cy="5133960"/>
        </p:xfrm>
        <a:graphic>
          <a:graphicData uri="http://schemas.openxmlformats.org/drawingml/2006/table">
            <a:tbl>
              <a:tblPr/>
              <a:tblGrid>
                <a:gridCol w="738000"/>
                <a:gridCol w="6308640"/>
                <a:gridCol w="1524240"/>
              </a:tblGrid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t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nizacja klatki schodowej – montaż instalacji oddymiania w budynku szpitala w Oleśn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 211,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aż wykładziny PCV w budynku szpitala w Oleśn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223,69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ont Laboratorium  w Syco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091,39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ont łazienek (PFR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4 680,48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ont podjazdów w Szpitalu w Sycowie (PFR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,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mont sal w oddziale wewnętrznym w Oleśn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000,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up 15 komputerów, 3 serwerów i urządzeń dla serwerowni (środki U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 968,78 zł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eraczka z separator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202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diomon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480,8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ół operacyj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999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EMONTY I ZAKUPY SPRZĘTU W 2011r.i 2012r. W PZS cz2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981000"/>
          <a:ext cx="8570880" cy="5295960"/>
        </p:xfrm>
        <a:graphic>
          <a:graphicData uri="http://schemas.openxmlformats.org/drawingml/2006/table">
            <a:tbl>
              <a:tblPr/>
              <a:tblGrid>
                <a:gridCol w="738000"/>
                <a:gridCol w="6308640"/>
                <a:gridCol w="1524240"/>
              </a:tblGrid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t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x Holter E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394,59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x fotel ginekologi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979,92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oksyme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800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yjka endoskop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jestrator rozmów telefonicznych w Pogotowiu Ratunkow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723,13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ownik do sevoflura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182,16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ze reanimacyjne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730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chód karetka VW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7 637,24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mpa zabiegowa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20,4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x kapnometr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551,52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pa infuzyjna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68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rebuchet MS"/>
              </a:rPr>
              <a:t>REMONTY I ZAKUPY SPRZĘTU W 2011r.i 2012r. W PZS cz2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4000" y="981000"/>
          <a:ext cx="8570880" cy="3943440"/>
        </p:xfrm>
        <a:graphic>
          <a:graphicData uri="http://schemas.openxmlformats.org/drawingml/2006/table">
            <a:tbl>
              <a:tblPr/>
              <a:tblGrid>
                <a:gridCol w="738000"/>
                <a:gridCol w="6308640"/>
                <a:gridCol w="1524240"/>
              </a:tblGrid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t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mpa diodowa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050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ktrokardiograf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406,99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zyna szorująca (Fundacj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149,76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ter EK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199,99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erokopiar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477,2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456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Żarówka ksenono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756,4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diomon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186,2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 algn="ct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4960" bIns="46800" anchor="t">
                      <a:noAutofit/>
                    </a:bodyPr>
                    <a:p>
                      <a:pPr marL="457200" indent="-449280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Łóżko do mycia chor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31840" bIns="46800" anchor="t">
                      <a:noAutofit/>
                    </a:bodyPr>
                    <a:p>
                      <a:pPr marL="457200" indent="-449280" algn="r"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220,00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ŚWIADCZEŃ NA POSZCZEGÓLNYCH ODDZIAŁACH W LATACH 2011 i 2010 cz.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87280" y="836640"/>
          <a:ext cx="8645760" cy="5257800"/>
        </p:xfrm>
        <a:graphic>
          <a:graphicData uri="http://schemas.openxmlformats.org/drawingml/2006/table">
            <a:tbl>
              <a:tblPr/>
              <a:tblGrid>
                <a:gridCol w="4861080"/>
                <a:gridCol w="2016000"/>
                <a:gridCol w="1768680"/>
              </a:tblGrid>
              <a:tr h="802080">
                <a:tc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HOSPIT. W 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HOSPIT. W 2011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OLEŚNI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8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wewnętrz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chirurgicz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tIns="2034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intensywnej opieki med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tIns="2034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ginekologiczno - położni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dziecię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noworodk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 – noworod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9 – noworod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203400" bIns="46800" anchor="ctr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Wewnętr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 6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ŚWIADCZEŃ NA POSZCZEGÓLNYCH ODDZIAŁACH W LATACH 2011 i 2010 cz.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7280" y="1154160"/>
          <a:ext cx="8645760" cy="2562120"/>
        </p:xfrm>
        <a:graphic>
          <a:graphicData uri="http://schemas.openxmlformats.org/drawingml/2006/table">
            <a:tbl>
              <a:tblPr/>
              <a:tblGrid>
                <a:gridCol w="4861080"/>
                <a:gridCol w="2016000"/>
                <a:gridCol w="1768680"/>
              </a:tblGrid>
              <a:tr h="802080">
                <a:tc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OSOBODNI W 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OSOBODNI W 2011 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203400" bIns="46800" anchor="ctr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dział Rehabilitacyj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ład Pielęgnacyjno Opiekuń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6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ZABIEGÓW W LATACH 2010 i 201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00000" y="1916280"/>
          <a:ext cx="7788240" cy="1774800"/>
        </p:xfrm>
        <a:graphic>
          <a:graphicData uri="http://schemas.openxmlformats.org/drawingml/2006/table">
            <a:tbl>
              <a:tblPr/>
              <a:tblGrid>
                <a:gridCol w="3456000"/>
                <a:gridCol w="1866960"/>
                <a:gridCol w="2465280"/>
              </a:tblGrid>
              <a:tr h="599760">
                <a:tc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5040">
                <a:tc>
                  <a:txBody>
                    <a:bodyPr lIns="90000" rIns="90000" tIns="2034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zabiegów chirurgicznych i ginekologi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RAD SPECJALISTYCZNYCH W LATACH 2011 i 201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26920" y="1141560"/>
          <a:ext cx="8067960" cy="5521320"/>
        </p:xfrm>
        <a:graphic>
          <a:graphicData uri="http://schemas.openxmlformats.org/drawingml/2006/table">
            <a:tbl>
              <a:tblPr/>
              <a:tblGrid>
                <a:gridCol w="4249800"/>
                <a:gridCol w="1943280"/>
                <a:gridCol w="1874880"/>
              </a:tblGrid>
              <a:tr h="61236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AD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PORAD W 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PORAD W 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OLEŚ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507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CZ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AZOWO-ORTOPEDYCZ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BETOLOGICZ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DIOLOGICZ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976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PITAL SYC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5076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RURGICZ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NEKOLOGICZNO-POŁOŻNIC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HABILITACYJ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2640"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BADAŃ DIAGNOSTYCZNYCH WYKONANYCH W LATACH 2011 i 201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26920" y="1044720"/>
          <a:ext cx="8067960" cy="4216320"/>
        </p:xfrm>
        <a:graphic>
          <a:graphicData uri="http://schemas.openxmlformats.org/drawingml/2006/table">
            <a:tbl>
              <a:tblPr/>
              <a:tblGrid>
                <a:gridCol w="2881440"/>
                <a:gridCol w="2497320"/>
                <a:gridCol w="2689200"/>
              </a:tblGrid>
              <a:tr h="612360"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BADAŃ W 2010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BADAŃ W 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DANIA LABORATORYJNE OLEŚ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 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 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DANIA LABORATORYJ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 5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24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DANIA RT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EŚ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24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DANIA RT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440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 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 6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PORAD AMBULATORYJ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LATACH 2010 i 201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55640" y="1341360"/>
          <a:ext cx="8139240" cy="3135240"/>
        </p:xfrm>
        <a:graphic>
          <a:graphicData uri="http://schemas.openxmlformats.org/drawingml/2006/table">
            <a:tbl>
              <a:tblPr/>
              <a:tblGrid>
                <a:gridCol w="2712960"/>
                <a:gridCol w="2712960"/>
                <a:gridCol w="2713320"/>
              </a:tblGrid>
              <a:tr h="590760">
                <a:tc>
                  <a:txBody>
                    <a:bodyPr lIns="90000" rIns="90000" tIns="507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38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040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BA PRZYJĘĆ I AMBULATORIUM POZ OLEŚ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5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75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0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BA PRZYJĘĆ I AMBULATORIUM POZ SYC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72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6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9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CZBA WYJAZDÓW POGOT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LATACH 2011 i 201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0800" y="1643040"/>
          <a:ext cx="7920000" cy="345744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39880"/>
              </a:tblGrid>
              <a:tr h="432000">
                <a:tc>
                  <a:txBody>
                    <a:bodyPr lIns="90000" rIns="90000" tIns="48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76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PAD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CHOROWA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03400" bIns="46800" anchor="t">
                      <a:noAutofit/>
                    </a:bodyPr>
                    <a:p>
                      <a:pPr marL="457200" indent="-449280" algn="ctr">
                        <a:lnSpc>
                          <a:spcPct val="7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504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 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9:50:32Z</dcterms:created>
  <dc:creator>AGalecki</dc:creator>
  <dc:description/>
  <dc:language>en-US</dc:language>
  <cp:lastModifiedBy>Jan Straszewski</cp:lastModifiedBy>
  <cp:lastPrinted>2012-05-16T10:37:06Z</cp:lastPrinted>
  <dcterms:modified xsi:type="dcterms:W3CDTF">2012-05-18T10:42:52Z</dcterms:modified>
  <cp:revision>124</cp:revision>
  <dc:subject/>
  <dc:title>USTAWA z dnia 15 kwietnia 2011 r.   o działalności leczniczej</dc:title>
</cp:coreProperties>
</file>